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9FB-698A-4C6C-9065-5B6A4BC4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2E42-B2E6-412D-82BB-0768CA5E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B35-1153-4DAD-89AB-8F1C290C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D2FC-8FA7-4051-BF1D-1D62AEE2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B9DE-A271-4BB9-98D4-C4EE7FFA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1D61-F851-4815-B9E6-6B23856F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48B3-1F8D-4864-AA6B-27C00C4D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8336-5C66-4752-A8D2-F07BA414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8F53-95C8-47B3-881F-4586658E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3F7D-E4B0-44A7-90A2-2E979738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9FE6-0251-4AE2-A584-5467F9AA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D6E2-A159-49FA-B782-7E7BA558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928D-BB5A-417B-92EB-EB92638C4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3880"/>
            <a:ext cx="3962520" cy="79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66"/>
                </a:solidFill>
                <a:latin typeface="Times New Roman"/>
                <a:cs typeface="Simplified Arabic"/>
              </a:rPr>
              <a:t>كلوا هذا جسدي يا شعبي الحبيب يا برايا اشهدي للسر العج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380880"/>
            <a:ext cx="7315200" cy="32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Times New Roman"/>
                <a:cs typeface="Simplified Arabic"/>
              </a:rPr>
              <a:t>في العشاء السري رسمتُ القرب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في الدم والخمر خلصتُ الإنسا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523880"/>
            <a:ext cx="3962520" cy="79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66"/>
                </a:solidFill>
                <a:latin typeface="Times New Roman"/>
                <a:cs typeface="Simplified Arabic"/>
              </a:rPr>
              <a:t>كلوا هذا جسدي يا شعبي الحبيب يا برايا اشهدي للسر العج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57640" y="0"/>
            <a:ext cx="58863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990720"/>
            <a:ext cx="3048120" cy="71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ثقبوا يديَّ أسقوني الآلا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من وهجِ عيني وزّعتُ السلام</a:t>
            </a:r>
            <a:r>
              <a:rPr b="0" lang="en-US" sz="5400" spc="-1" strike="noStrike">
                <a:solidFill>
                  <a:srgbClr val="ff9966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523880"/>
            <a:ext cx="3962520" cy="79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66"/>
                </a:solidFill>
                <a:latin typeface="Times New Roman"/>
                <a:cs typeface="Simplified Arabic"/>
              </a:rPr>
              <a:t>كلوا هذا جسدي يا شعبي الحبيب يا برايا اشهدي للسر العج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86320" y="0"/>
            <a:ext cx="46576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80880"/>
            <a:ext cx="411480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دماً سالَ جنبي كالحملِ المذبو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عذاب الصلبِ قد اسلمتُ الروح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523880"/>
            <a:ext cx="3962520" cy="79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66"/>
                </a:solidFill>
                <a:latin typeface="Times New Roman"/>
                <a:cs typeface="Simplified Arabic"/>
              </a:rPr>
              <a:t>كلوا هذا جسدي يا شعبي الحبيب يا برايا اشهدي للسر العج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5:52:11Z</dcterms:created>
  <dc:creator>SUZANNE.MD</dc:creator>
  <dc:description/>
  <dc:language>en-US</dc:language>
  <cp:lastModifiedBy>HANI SAFI</cp:lastModifiedBy>
  <dcterms:modified xsi:type="dcterms:W3CDTF">2003-04-16T13:44:52Z</dcterms:modified>
  <cp:revision>2</cp:revision>
  <dc:subject/>
  <dc:title>PowerPoint Presentation</dc:title>
</cp:coreProperties>
</file>